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85DF-FE61-47BB-A043-BC002DC4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5D78-DB53-4468-8385-5EF9955C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8114-BE99-4B86-A53F-E0F66202F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23DF-273E-42A7-8AF9-B96C8B44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95EC-FA3A-49F1-ABAA-F083252C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00EB-320C-467B-8B9F-C0FD6F77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1CAB-B807-4D63-B4D0-2B24009E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0F17-1E37-41B2-AD2F-9801B1B4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07C3-67E8-4ABD-AB2D-F6BF7067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0A2F-4B76-4C89-B234-11314FC8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8302-B2F5-4E14-A87F-59EC7EE1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8042-0974-4047-8862-293DD72A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D2DE-75B3-4206-B35B-D6BE9903B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1143000"/>
            <a:ext cx="69530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The Course of the Ni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 rot="21337200">
            <a:off x="1980720" y="3962160"/>
            <a:ext cx="5943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By Tobias and Jarr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ong approximately is the Nil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s long as my big t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bout 6,500 kilo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bout 6,500 m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All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 of The N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ke Platea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-Ja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 N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N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b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ed Nile-North of Khartoum in The Sudan and Egy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le De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taracts of The N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racts are areas in a River with shallow water and multiple obstacles. Six of them lie in the N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ength of The Nile Riv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ile River is 6,671 kilometers long, 2000 yards deep, 300,350,000 kilometers squa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Dangers of the N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cata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Hipp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Nile Crocod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143000" y="1295280"/>
            <a:ext cx="6483240" cy="406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IT’S QUIZ TIME!!!!!!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heel spokes="3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ne is a resource of the Nil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eletubbi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Damietta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l-Ja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The Mississippi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of the God of the Nile Riv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appy wonder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H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Mo-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3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areas of shallow rapids call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Barney’s C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Rap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Cata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77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77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0" dur="77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2" dur="77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7:41:45Z</dcterms:created>
  <dc:creator>Default</dc:creator>
  <dc:description/>
  <dc:language>en-US</dc:language>
  <cp:lastModifiedBy>Default</cp:lastModifiedBy>
  <dcterms:modified xsi:type="dcterms:W3CDTF">2009-01-16T17:56:42Z</dcterms:modified>
  <cp:revision>8</cp:revision>
  <dc:subject/>
  <dc:title>The Course of the Nile</dc:title>
</cp:coreProperties>
</file>